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9EE6-B4BC-4AD3-BFB2-F35CEB830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9D33-21CB-4FDC-8D1F-AF706C81B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C2EC-B7FF-4B40-980C-6DCA28D85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15D2-6D27-4EAF-B751-FB1B468EE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E01E-A5A1-4B77-B831-51F191D62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459D-07AB-453A-A6DA-C228FC439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A310-18E0-4A26-9C8A-A974ABAB4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05BD-724E-4712-862B-82AB6DDAE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4891-F54D-40DB-AA63-41433B3DB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44DA-0E0F-43ED-B0F8-C0611BF36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5B10-4665-402E-AD22-97A3D0835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AB03-C179-44C5-B880-EF1283E06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C5AFD-39EF-4859-A341-0E2AF7C642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11280" y="286200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00"/>
                </a:solidFill>
                <a:latin typeface="Bookman Old Style"/>
              </a:rPr>
              <a:t>Запей с благодарност ти</a:t>
            </a:r>
            <a:br>
              <a:rPr sz="4400"/>
            </a:br>
            <a:r>
              <a:rPr b="1" lang="bg-BG" sz="4400" spc="-1" strike="noStrike">
                <a:solidFill>
                  <a:srgbClr val="ffff00"/>
                </a:solidFill>
                <a:latin typeface="Bookman Old Style"/>
              </a:rPr>
              <a:t> и Господа прослави </a:t>
            </a:r>
            <a:br>
              <a:rPr sz="4400"/>
            </a:br>
            <a:r>
              <a:rPr b="1" lang="bg-BG" sz="4400" spc="-1" strike="noStrike">
                <a:solidFill>
                  <a:srgbClr val="ffff00"/>
                </a:solidFill>
                <a:latin typeface="Bookman Old Style"/>
              </a:rPr>
              <a:t>за нас Той пожертва</a:t>
            </a:r>
            <a:br>
              <a:rPr sz="4400"/>
            </a:br>
            <a:r>
              <a:rPr b="1" lang="bg-BG" sz="4400" spc="-1" strike="noStrike">
                <a:solidFill>
                  <a:srgbClr val="ffff00"/>
                </a:solidFill>
                <a:latin typeface="Bookman Old Style"/>
              </a:rPr>
              <a:t> Своя Син Исус /2/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8172360" y="616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47000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60" y="2666520"/>
            <a:ext cx="845964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00"/>
                </a:solidFill>
                <a:latin typeface="Bookman Old Style"/>
              </a:rPr>
              <a:t>Бях беден сега богат съм, слаб Той ми даде сила, всичко това направи </a:t>
            </a:r>
            <a:br>
              <a:rPr sz="4400"/>
            </a:br>
            <a:r>
              <a:rPr b="1" lang="bg-BG" sz="4400" spc="-1" strike="noStrike">
                <a:solidFill>
                  <a:srgbClr val="ffff00"/>
                </a:solidFill>
                <a:latin typeface="Bookman Old Style"/>
              </a:rPr>
              <a:t>Бог за мен.</a:t>
            </a:r>
            <a:r>
              <a:rPr b="1" lang="bg-BG" sz="44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2666520"/>
            <a:ext cx="845964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00"/>
                </a:solidFill>
                <a:latin typeface="Bookman Old Style"/>
              </a:rPr>
              <a:t>Бях беден сега богат съм, слаб Той ми даде сила, всичко това направи Бог за мен,</a:t>
            </a:r>
            <a:br>
              <a:rPr sz="4400"/>
            </a:br>
            <a:r>
              <a:rPr b="1" lang="bg-BG" sz="4400" spc="-1" strike="noStrike">
                <a:solidFill>
                  <a:srgbClr val="ffff00"/>
                </a:solidFill>
                <a:latin typeface="Bookman Old Style"/>
              </a:rPr>
              <a:t> за мен, за мен.</a:t>
            </a:r>
            <a:r>
              <a:rPr b="1" lang="bg-BG" sz="44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4000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5T20:28:19Z</dcterms:created>
  <dc:creator>TrifonTrifonow</dc:creator>
  <dc:description/>
  <dc:language>en-US</dc:language>
  <cp:lastModifiedBy>TrifonTrifonow</cp:lastModifiedBy>
  <dcterms:modified xsi:type="dcterms:W3CDTF">2005-12-15T20:28:51Z</dcterms:modified>
  <cp:revision>1</cp:revision>
  <dc:subject/>
  <dc:title>Запей с благодарност ти  и Господа прослави  за нас Той пожертва  Своя Син Исус /2/</dc:title>
</cp:coreProperties>
</file>